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462-C779-4842-A890-5511C98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080-9D54-49B2-A315-9042FEB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AED-D88D-4D08-AED9-2ECD159B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A71-8A13-4EE9-B6EF-0470976F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15DB-8E53-42CF-9208-0CD890EF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16C5-260F-4CF3-A879-449A95C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9083-61E1-4E21-A756-474C9E5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359A-227D-4B04-BE88-9A40E14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901-33D7-42D9-8567-5F538D8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AA6E-7114-485E-8AC3-2CBA6A1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E2E-9CC2-473D-A8BA-CB27E26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895-69E5-4F43-8A6B-8BAE79D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799B-2A6A-40E0-855F-5CD2B90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56BD-FCB0-415C-A28A-6CFC480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0861-1199-45CF-A345-C725AC2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EA63-9F9C-45CE-AE0E-4F297B8E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BAA-D828-49A2-A6BD-EC43A775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F51-E747-4548-AABB-386D8D4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71D-5C2F-4641-A867-0B6F73B1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069-E1EE-4089-AF60-872A8E6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A90-B610-47F8-B86C-8B5E8E1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30D-BCA3-45F9-97AE-91AD579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632-880D-4205-929A-5136C41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889-B03E-448B-B771-85E90F3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084-320D-4DA6-9B6A-79B2884657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168-1EFE-411C-8C14-F9119ACE4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rganic 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22 +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on Functional Grou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28600" y="1792440"/>
            <a:ext cx="937260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nzene and Aroma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zen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- probably the most important aromatic compound (used in plastics, dyes, medicines, paint, explosives, fragrances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matic- compounds containing benzene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29360" y="3724200"/>
            <a:ext cx="39146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oline, Esters, Poly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ional Distillation- used to separate crude oil into useful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rification- making esters from an acid and an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ization- making large repeating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- no particles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nsation- eliminates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 4-6 p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WE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ganic vs. Inorganic Chemis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rganic compounds contain carbon, inorganic compounds do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ganic Compou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itially obtained only from living organisms (living &amp; fossilized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crude oil, protein, fats, dyes, c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Syn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induced production of organic compounds in a lab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pharmaceuticals, addi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carb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und containing only C &amp; 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ivati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unds where H is replaced by another type of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bon Backb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ngest carbon chain within a molecule (also used to name the compou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branched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backbone form a linear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nch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rbon backbone branches off at leas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turat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s all C-C single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saturat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at least 1 C=C or C≡C bo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ing Simple Hydrocarb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ane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turated hydrocarbons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ixes: meth-, eth-, prop-, but-, pent-, hex-, hept-, oct-, non-, dec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: -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e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nsaturated hydrocarbons with at least 1 C=C bond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30880" indent="-40032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n –ene (Ex: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ente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y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nsaturated hydrocarbons with at least 1 C≡C bond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30880" indent="-40032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n –yne (Ex: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penty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ming and Iso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s- compounds with exact molecular formulas, but different structural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s have different nam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longest chain of carbons (backb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carbons in the back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prefix and ending (are there double/triple bond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substituent groups (Ex: methyl, ethy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habet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ing/Naming Iso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ing Handout p. 2 p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Functional Grou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found groups of atoms that appear in many organic compounds (see handou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Represe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ydrocarbo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22:46:23Z</dcterms:created>
  <dc:creator>cmichene</dc:creator>
  <dc:description/>
  <dc:language>en-US</dc:language>
  <cp:lastModifiedBy>udsd</cp:lastModifiedBy>
  <dcterms:modified xsi:type="dcterms:W3CDTF">2008-08-19T14:09:09Z</dcterms:modified>
  <cp:revision>20</cp:revision>
  <dc:subject/>
  <dc:title>Organic Chemistry</dc:title>
</cp:coreProperties>
</file>